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jpeg" ContentType="image/jpeg"/>
  <Override PartName="/ppt/media/image5.png" ContentType="image/png"/>
  <Override PartName="/ppt/media/Pig.wav" ContentType="audio/x-wav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6.wmf" ContentType="image/x-wmf"/>
  <Override PartName="/ppt/media/image15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4891-AAB6-4967-A7C6-2598131CF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2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0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4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9848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06" name="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ADH passes electrons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lectrons passed from one electron carrier to next in mitochondrial membrane (ETC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4760" y="393120"/>
            <a:ext cx="4752720" cy="1007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97520" y="6153840"/>
            <a:ext cx="49219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53" name="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65160" y="318600"/>
            <a:ext cx="36385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e diffusion of ions across a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Chemiosmosi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366840" y="442800"/>
            <a:ext cx="8410320" cy="6307200"/>
            <a:chOff x="366840" y="442800"/>
            <a:chExt cx="8410320" cy="630720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366840" y="442800"/>
              <a:ext cx="8410320" cy="63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884760" y="105084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83240" y="478476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24920" y="41497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18080" y="43560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97880" y="20638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17920" y="1960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35040" y="5408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35160" y="527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2640" y="5256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776160"/>
              <a:ext cx="13633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ruvate fro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38160" y="109224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14920" y="1461960"/>
              <a:ext cx="889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4880" y="5899320"/>
              <a:ext cx="8784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15080" y="378612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86120" y="479916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41840" y="3994200"/>
              <a:ext cx="575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0960" y="728640"/>
              <a:ext cx="1463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4120" y="852480"/>
              <a:ext cx="13388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65280" y="3065400"/>
              <a:ext cx="2563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1. Electrons are harvested and carried to the transport system.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05520" y="2712960"/>
              <a:ext cx="160020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2. Electrons provide energy </a:t>
              </a:r>
              <a:br>
                <a:rPr sz="1500"/>
              </a:b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to pump protons across the membrane.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62520" y="4052880"/>
              <a:ext cx="17604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3. Oxygen joins    with protons to form water.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21240" y="4551480"/>
              <a:ext cx="32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04120" y="365616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04120" y="26654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66960" y="3240000"/>
              <a:ext cx="109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etyl-Co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87600" y="4133880"/>
              <a:ext cx="6285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37160" y="53960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31040" y="5753160"/>
              <a:ext cx="2492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4. Protons diffuse back in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down their concentration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gradient, driving the 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synthesis of ATP.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94160" y="6105600"/>
              <a:ext cx="1384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10000" y="4265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0000" y="405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27520" y="165744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40520" y="4287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73760" y="92880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85240" y="268128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29800" y="42703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2320" y="523872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89640" y="314640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60480" y="39765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51000" y="36561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98360" y="26812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815400" y="5900040"/>
            <a:ext cx="126108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05960" y="5900040"/>
            <a:ext cx="148392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~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000" y="5900040"/>
            <a:ext cx="126108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8720" y="5900040"/>
            <a:ext cx="169560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~34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2248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0680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4820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0" name="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66" name="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716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94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95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1284120" y="4548240"/>
            <a:ext cx="1735200" cy="1073160"/>
          </a:xfrm>
          <a:prstGeom prst="wedgeEllipseCallout">
            <a:avLst>
              <a:gd name="adj1" fmla="val 66375"/>
              <a:gd name="adj2" fmla="val 6419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is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molecules built in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itochondrial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~34 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3" name="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888560" y="5784840"/>
            <a:ext cx="1734840" cy="1073160"/>
          </a:xfrm>
          <a:prstGeom prst="wedgeEllipseCallout">
            <a:avLst>
              <a:gd name="adj1" fmla="val 97847"/>
              <a:gd name="adj2" fmla="val -4097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59720" y="2117880"/>
            <a:ext cx="263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338240" y="1608120"/>
            <a:ext cx="1681560" cy="2425680"/>
            <a:chOff x="7338240" y="1608120"/>
            <a:chExt cx="1681560" cy="2425680"/>
          </a:xfrm>
        </p:grpSpPr>
        <p:sp>
          <p:nvSpPr>
            <p:cNvPr id="144" name=""/>
            <p:cNvSpPr/>
            <p:nvPr/>
          </p:nvSpPr>
          <p:spPr>
            <a:xfrm>
              <a:off x="7338240" y="1608120"/>
              <a:ext cx="168156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875720" y="2481120"/>
              <a:ext cx="37944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7080" y="1320120"/>
            <a:ext cx="205740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218600"/>
            <a:ext cx="243864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8000" y="2944440"/>
            <a:ext cx="1483560" cy="940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7400" y="2991960"/>
            <a:ext cx="14137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4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04760" y="4321080"/>
            <a:ext cx="1703520" cy="1041480"/>
          </a:xfrm>
          <a:prstGeom prst="wedgeEllipseCallout">
            <a:avLst>
              <a:gd name="adj1" fmla="val 27074"/>
              <a:gd name="adj2" fmla="val 11356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40040" y="247644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1" name="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0 w 476280"/>
              <a:gd name="textAreaRight" fmla="*/ 476640 w 4762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1440" y="10800"/>
                </a:moveTo>
                <a:arcTo wR="-9360" hR="-936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196" name="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>
            <a:off x="29876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75400" y="1315800"/>
            <a:ext cx="41522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01-11T06:40:47Z</cp:lastPrinted>
  <dcterms:modified xsi:type="dcterms:W3CDTF">2008-11-07T15:02:03Z</dcterms:modified>
  <cp:revision>45</cp:revision>
  <dc:subject/>
  <dc:title>Cellular Respiration  Stage 4:    Electron Transport Chain</dc:title>
</cp:coreProperties>
</file>